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8DAB-D640-466D-84B1-81F3C9AB7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8F0D-8FE3-4C97-B065-D754962C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7F6-2E63-4EDB-BD36-54D52D4D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8AD-E400-4E96-A275-5780BE23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465-66FA-4BEC-BED4-04353129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ECC-E0D4-4940-A70A-6109DB43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7C5-D577-43FD-B4C5-453C0DF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12E-2F56-4A57-A6B2-C7725A9B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000-4DFB-47F9-8225-B397C94C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45B-CDB5-4DED-9B38-2C9B8D23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859-B4EE-496F-94A8-E533A4D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D98-7FDC-4E20-969A-7A322A3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2F4-A789-40CD-B9A0-5259D6CD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EB0-4F81-4865-87E7-A5E986B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D7F-6D01-4E48-9506-0EADB9BC8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selly Ju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oselly Jua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oselly Jua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oselly Jua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146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Tardes, Yo quiero bailo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alva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Joselly.  Yo vivo en la ciudad Astoria.  Tengo catorse años.  Yo no tengo hermanos. Soy simpatica y muy perezos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066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09880"/>
            <a:ext cx="3429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! Tengo mucho tare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12408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, quiero va al par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está loca.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, cuantos tareas tenemos?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s muy fastidioso.      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uantos años tienes? ¿Cuatro?                 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932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ssm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38080" y="60958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z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9:12Z</dcterms:modified>
  <cp:revision>106</cp:revision>
  <dc:subject/>
  <dc:title>Profile</dc:title>
</cp:coreProperties>
</file>